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1689-F0E3-428C-BF56-10A87DD75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7869-EFA6-47E0-9C8A-FD62F1129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92FE-E24D-4999-9D17-38775C395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C0F4-3F50-4376-A735-038520FF4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5234-961C-48C0-BF6B-0143382FF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9F2C-25EB-49F0-823C-4E97C82A3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022D-0265-43FD-B724-B79720B5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D9EE-3127-499D-8B06-777BF58F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6744-0BA1-40F5-8294-262F6F899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0FB6-A750-4A93-AF62-46288E8B68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BC30-E7CE-4E25-9909-EE3646FCD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D534-08AF-416C-9AD3-11487878E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C783-881D-4F19-A94C-65ADD7F03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AAEC-67DE-48AC-B3FF-B05CEC907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822A-1B96-4027-AD6B-B9A99424F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7CB6-24F0-4069-851B-3549238F9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1A3E-9D68-47C0-AB19-90CC5E4D0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5344-997E-42A1-A880-DE84EBCEE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FD34-A367-4F99-8E06-777562AA22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C170-7290-4D09-A336-62BF91566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A3C1-F129-4F21-8654-D86FABEFD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66AD-65E8-4AEF-BBA4-FADAF681F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4E40-A860-4AE4-ACE5-C9504550D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70A8-8BAB-4B07-9F9B-8D0A05681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4A25-1909-4340-B1AF-CCC2A418C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1823-8D42-49C5-A289-BB2DE906F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BE6A-76EF-4068-8E32-E0476EB6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16D-1FE3-41B8-8771-C87C7A098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933D-1323-4DFA-A6E5-B66A0CD64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2246-8683-4834-AA5A-54A10F12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18B2-AA09-4A3C-A530-9D7D4F770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3466-31D2-44BE-A3E8-2C4373F28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23A9-22DC-4D6B-A6D8-8DDE2DE89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1343-11B3-4215-A159-2FE7EB549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F5C9-E52F-402B-A3B1-8FC73D78B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E71-D701-4FA8-AF8F-1BDB27A42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EC4-8314-4DF6-BDED-3F236A19F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E818-9179-4FDE-B832-3205A689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A59-02F1-4AEC-BCBE-33040C3C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7B9F-1A67-479F-9EA1-E874CEF7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FD86-AAB0-4831-A831-E2EEA614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3379-DF05-4054-80C1-FF621E74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9AD1-70FB-4079-8FAE-4C74CE15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9614-7249-4FB6-9A60-BF05E31D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042B-92FA-4241-A956-940DF468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D4E9-2D1F-4FFF-858B-63FB3CF5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5D9E-C3B2-415F-9160-C6F5043AD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7036-E8EB-4CD2-94FE-7D0D134D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1C69-35D4-42FC-AE4F-E23C33A8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82BB-256E-4B05-ACFF-8D6EA1E4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7549-A3D7-450B-B0F4-2B91BC8C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E8B7-DD6A-4917-B0C5-057FAAFD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6A35-B6C8-451A-B78E-5D6C6388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4F3A-2673-4FE5-A3E9-83DB2BF0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8C93-E68A-4233-9D27-FC23A62F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9C8-DEF4-4EED-B656-2224D214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08CB-5D16-4799-B40A-640BE523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2D24-69B7-4649-AB85-C0CBE0A0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D31-7166-456B-84C0-50635D3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813E-1389-456E-A4C4-A903679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74E7-8855-4ECE-B467-5D9FF2D9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1E3F-2D36-47E4-A57A-5A063E39B5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1F24-4B83-491B-ACBF-2EC7612C2C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1295280" y="228600"/>
            <a:ext cx="6400800" cy="1447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 13:  Forests, Parks and Landscap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a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nom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cologicall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523880" y="0"/>
            <a:ext cx="57913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orest 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14400" y="12189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wo types of fores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st logging is on private and U.S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est  service lan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____________________________f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the greatest amou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good for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st amount of peopl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69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440" y="762120"/>
            <a:ext cx="8458200" cy="594360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.S.F.S.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use polic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ationists call this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“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ultiple misus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ogging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9" descr="6517f04a.gif - 1.43 K"/>
          <p:cNvPicPr/>
          <p:nvPr/>
        </p:nvPicPr>
        <p:blipFill>
          <a:blip r:embed="rId1"/>
          <a:stretch/>
        </p:blipFill>
        <p:spPr>
          <a:xfrm>
            <a:off x="5867280" y="533520"/>
            <a:ext cx="2667240" cy="1295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6517f04b.gif - 1.55 K"/>
          <p:cNvPicPr/>
          <p:nvPr/>
        </p:nvPicPr>
        <p:blipFill>
          <a:blip r:embed="rId2"/>
          <a:stretch/>
        </p:blipFill>
        <p:spPr>
          <a:xfrm>
            <a:off x="6019920" y="2362320"/>
            <a:ext cx="2438280" cy="1581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6517f04c"/>
          <p:cNvPicPr/>
          <p:nvPr/>
        </p:nvPicPr>
        <p:blipFill>
          <a:blip r:embed="rId3"/>
          <a:stretch/>
        </p:blipFill>
        <p:spPr>
          <a:xfrm>
            <a:off x="5867280" y="4800600"/>
            <a:ext cx="27687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09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06668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Effects of clear-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landslides likely on steep slop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396120" y="6400800"/>
            <a:ext cx="27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223920" y="228600"/>
            <a:ext cx="137628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ffects of clearcutting on forest chemical cyc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6" descr="F13_13"/>
          <p:cNvPicPr/>
          <p:nvPr/>
        </p:nvPicPr>
        <p:blipFill>
          <a:blip r:embed="rId1"/>
          <a:stretch/>
        </p:blipFill>
        <p:spPr>
          <a:xfrm>
            <a:off x="1486080" y="0"/>
            <a:ext cx="76579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ests mgmt may also include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cribed burning. (clear underbrus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lantation Fore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ca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planted after clearcu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7" descr="forest"/>
          <p:cNvPicPr/>
          <p:nvPr/>
        </p:nvPicPr>
        <p:blipFill>
          <a:blip r:embed="rId1"/>
          <a:stretch/>
        </p:blipFill>
        <p:spPr>
          <a:xfrm>
            <a:off x="5029200" y="38862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plantation_lif"/>
          <p:cNvPicPr/>
          <p:nvPr/>
        </p:nvPicPr>
        <p:blipFill>
          <a:blip r:embed="rId2"/>
          <a:stretch/>
        </p:blipFill>
        <p:spPr>
          <a:xfrm>
            <a:off x="304920" y="3902040"/>
            <a:ext cx="396216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>
            <a:off x="1676520" y="380880"/>
            <a:ext cx="54100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ks and Preser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info. (10% land set as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 and State Park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_____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s. Forest Servic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_____________________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l. Parks managed by 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ate manages ow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.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irst Natl. Park in US was Yellowstone i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8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-161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5331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rks and preserves as is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k vs nature reserve/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park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 natl. reserve…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land bio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size and diversity of habi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s  # of species th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maintaine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1436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signing a prese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r, more varied habitats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nectivity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6095880" y="1523880"/>
            <a:ext cx="990720" cy="15242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7162920" y="6583320"/>
            <a:ext cx="255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990720" y="411120"/>
            <a:ext cx="1600200" cy="96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Park shapes and island biogeograph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F13_14"/>
          <p:cNvPicPr/>
          <p:nvPr/>
        </p:nvPicPr>
        <p:blipFill>
          <a:blip r:embed="rId1"/>
          <a:stretch/>
        </p:blipFill>
        <p:spPr>
          <a:xfrm>
            <a:off x="2666880" y="304920"/>
            <a:ext cx="6019920" cy="61722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3276720" y="9144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Good – large area protects many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095880" y="1447920"/>
            <a:ext cx="99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Small areas but over more than one area can be better insura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24280" y="56386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est – wildlife corridors connect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  One of the most crucial environment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rns of our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irect cau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eveloping world = majo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of fu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73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erving Wilder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ilder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undisturbed, roadless habit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Wilderness Act of 1964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“Humans ca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‘visit’, not machines!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11" descr="hiking in Adams Ansel Wilderness, John Muir Trail"/>
          <p:cNvPicPr/>
          <p:nvPr/>
        </p:nvPicPr>
        <p:blipFill>
          <a:blip r:embed="rId1"/>
          <a:stretch/>
        </p:blipFill>
        <p:spPr>
          <a:xfrm>
            <a:off x="1219320" y="3048120"/>
            <a:ext cx="7014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 14:  Wildlife, Fisheries and 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Managing wildlife popul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a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aximum Sustainable Yield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Y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b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Minimum Viable Population 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(endangered spec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c.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Optimum Sustainabl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d. Carrying Capa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 70% global fishes considered overfish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762120" y="182880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d fish harvests are decl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ental shelf = 95% harv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pwelling, nutrients, alga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armful commercial fishing techniques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6"/>
          <p:cNvSpPr/>
          <p:nvPr/>
        </p:nvSpPr>
        <p:spPr>
          <a:xfrm>
            <a:off x="990720" y="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For every pound of shrimp caught, 10 - 20 lbs of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bycatch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 “trawl trash” is killed and discard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8" descr="Trawling"/>
          <p:cNvPicPr/>
          <p:nvPr/>
        </p:nvPicPr>
        <p:blipFill>
          <a:blip r:embed="rId1"/>
          <a:stretch/>
        </p:blipFill>
        <p:spPr>
          <a:xfrm>
            <a:off x="838080" y="2743200"/>
            <a:ext cx="342900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8"/>
          <p:cNvSpPr/>
          <p:nvPr/>
        </p:nvSpPr>
        <p:spPr>
          <a:xfrm>
            <a:off x="4495680" y="2743200"/>
            <a:ext cx="4419720" cy="3733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4952880" y="3352680"/>
            <a:ext cx="320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mic Sans MS"/>
              </a:rPr>
              <a:t>The area of the seafloor trawled is equal to 150X the area of forests clear cut each yea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6553080" y="6338880"/>
            <a:ext cx="312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3 John Wiley and Sons Publis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895480" y="533520"/>
            <a:ext cx="3200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e world’s major fishe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F14_9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5"/>
          <p:cNvSpPr/>
          <p:nvPr/>
        </p:nvSpPr>
        <p:spPr>
          <a:xfrm>
            <a:off x="0" y="5562720"/>
            <a:ext cx="33526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ed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upwelling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high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Yellow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= moderate pro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457200" y="685800"/>
            <a:ext cx="7924680" cy="52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Who’s being deple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irtually every large fish in the ocean: Including, but not limit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have declined by 90% since industrialized fishing after WW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isheries in total collap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y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uefin and Albacore Tu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rd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lantic C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chovies from P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lmon from Pacific Northw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laska is 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Collapse of the Newfoundland cod fisher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838080" y="685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World  Fisheries Con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3520" y="1371600"/>
            <a:ext cx="8381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992 and 199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very major country discusses codes of conduct/harvesting…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sta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1523880" y="228600"/>
            <a:ext cx="601992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Case Study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Calibri"/>
              </a:rPr>
              <a:t>Paper and 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U.S. and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We (5% or world’s pop.) use 30% of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Global wood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Predicted to double by 20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5" descr="oldgrowth_logo_lg"/>
          <p:cNvPicPr/>
          <p:nvPr/>
        </p:nvPicPr>
        <p:blipFill>
          <a:blip r:embed="rId1"/>
          <a:stretch/>
        </p:blipFill>
        <p:spPr>
          <a:xfrm>
            <a:off x="6781680" y="2666880"/>
            <a:ext cx="2133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6" descr="Graph representing Trend in median age-at-maturity for Atlantic cod in Lofoton,&#13;&#10;Norway."/>
          <p:cNvPicPr/>
          <p:nvPr/>
        </p:nvPicPr>
        <p:blipFill>
          <a:blip r:embed="rId1"/>
          <a:stretch/>
        </p:blipFill>
        <p:spPr>
          <a:xfrm>
            <a:off x="228600" y="266760"/>
            <a:ext cx="8610480" cy="52434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1295280" y="5867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h caught are getting younger and you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les and Wh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 whales and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sistence  vs. commerc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viest losses in 20th century wit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 whaling equi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88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val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ch less $$ than fishe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t a few crucial products (whale oi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_____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ed i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6 set moratorium on commercial wha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82  (very important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 Violates B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0000 have been slaughtered since the ban in 198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68760" y="3860640"/>
            <a:ext cx="6480" cy="50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under guise of “scientific research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ys the “rats of the sea” are responsible for crash of fisherie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WC contemplating 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05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3352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phins, porpoise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ercial and accidental hun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tuna nett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peration and boycott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helped establish measur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reduce bycatch morta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Endangered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l. Union of Concerned Scientists (IUCC) Red List says, at risk of extinction ar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mamm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bi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rept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ll known amphib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Natural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fluctuations (if pop is very lo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vironmental Vari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Catastrop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changes (Small po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Human Causes of Exti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oxic Pollution and W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Pollut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leaching 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aia_b_guetezeichen2_0_magia"/>
          <p:cNvPicPr/>
          <p:nvPr/>
        </p:nvPicPr>
        <p:blipFill>
          <a:blip r:embed="rId1"/>
          <a:stretch/>
        </p:blipFill>
        <p:spPr>
          <a:xfrm>
            <a:off x="5257800" y="419112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Seventh Generation Toilet Paper"/>
          <p:cNvPicPr/>
          <p:nvPr/>
        </p:nvPicPr>
        <p:blipFill>
          <a:blip r:embed="rId2"/>
          <a:stretch/>
        </p:blipFill>
        <p:spPr>
          <a:xfrm>
            <a:off x="990720" y="342900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316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per is the dominant material in solid wast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landfill"/>
          <p:cNvPicPr/>
          <p:nvPr/>
        </p:nvPicPr>
        <p:blipFill>
          <a:blip r:embed="rId1"/>
          <a:stretch/>
        </p:blipFill>
        <p:spPr>
          <a:xfrm>
            <a:off x="3352680" y="1371600"/>
            <a:ext cx="4876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08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lternatives to wood in pa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Kena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from East Ind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Man in Kenaf field"/>
          <p:cNvPicPr/>
          <p:nvPr/>
        </p:nvPicPr>
        <p:blipFill>
          <a:blip r:embed="rId1"/>
          <a:stretch/>
        </p:blipFill>
        <p:spPr>
          <a:xfrm>
            <a:off x="5486400" y="1828800"/>
            <a:ext cx="3286080" cy="407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380880" y="1600200"/>
            <a:ext cx="4876920" cy="4648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em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first paper 105 A.D. - Chi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7" descr="oldtractor"/>
          <p:cNvPicPr/>
          <p:nvPr/>
        </p:nvPicPr>
        <p:blipFill>
          <a:blip r:embed="rId1"/>
          <a:stretch/>
        </p:blipFill>
        <p:spPr>
          <a:xfrm>
            <a:off x="5715000" y="2057400"/>
            <a:ext cx="3095640" cy="28954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5638680" y="52578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f world’s most versatile fi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57200" y="1143000"/>
            <a:ext cx="4952880" cy="5410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hemp20"/>
          <p:cNvPicPr/>
          <p:nvPr/>
        </p:nvPicPr>
        <p:blipFill>
          <a:blip r:embed="rId1"/>
          <a:stretch/>
        </p:blipFill>
        <p:spPr>
          <a:xfrm>
            <a:off x="762120" y="304920"/>
            <a:ext cx="2819160" cy="3028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matériaux de construction"/>
          <p:cNvPicPr/>
          <p:nvPr/>
        </p:nvPicPr>
        <p:blipFill>
          <a:blip r:embed="rId2"/>
          <a:stretch/>
        </p:blipFill>
        <p:spPr>
          <a:xfrm>
            <a:off x="4191120" y="304920"/>
            <a:ext cx="4419360" cy="29368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6"/>
          <p:cNvSpPr/>
          <p:nvPr/>
        </p:nvSpPr>
        <p:spPr>
          <a:xfrm>
            <a:off x="838080" y="3505320"/>
            <a:ext cx="7772400" cy="29718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0948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Wheat, sugar cane and other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gricultural straw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agricultural was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used for over 2000 y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ecycled 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  Down from 10% (1990) to 5% toda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(consumer apath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  Not easily market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7" descr="recycled paper"/>
          <p:cNvPicPr/>
          <p:nvPr/>
        </p:nvPicPr>
        <p:blipFill>
          <a:blip r:embed="rId1"/>
          <a:stretch/>
        </p:blipFill>
        <p:spPr>
          <a:xfrm>
            <a:off x="6324480" y="4114800"/>
            <a:ext cx="1895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23:03:34Z</dcterms:created>
  <dc:creator>Amy Chan</dc:creator>
  <dc:description/>
  <dc:language>en-US</dc:language>
  <cp:lastModifiedBy>infosys</cp:lastModifiedBy>
  <dcterms:modified xsi:type="dcterms:W3CDTF">2013-12-03T16:42:27Z</dcterms:modified>
  <cp:revision>72</cp:revision>
  <dc:subject/>
  <dc:title>Chapter 13  Landscapes and Seascapes</dc:title>
</cp:coreProperties>
</file>